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035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069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4"/>
          </p:nvPr>
        </p:nvSpPr>
        <p:spPr>
          <a:xfrm>
            <a:off x="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8601A-722D-45DE-9A3D-07E9515C80F6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2EF5-AC7B-4667-AEC7-817A65E99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B1C4-956B-4D1C-A6EF-B2B00A9B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4C34-9761-483F-97E3-C7FB147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44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960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44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960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244C-1469-4945-9585-3E7F4C497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FDBF-1B6C-445F-B7A9-E0D5A2D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5008-A67B-4898-8D51-65FB5672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A022-A13B-4D47-A9C7-1BBE26E8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4DE3-6C97-4823-B3AC-E58FD9E1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295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FF71-755A-4E01-949A-A13FC507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19B8-EEC4-4F0D-9ED8-0B1D42C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0E11-1D4A-49B8-9ABE-89469011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0502-4E3C-4DE7-B4CE-D25988A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 septembr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9128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DCDC0-6595-4AFF-BAC5-FA0D0D69FFE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1280" y="0"/>
            <a:ext cx="1800" cy="7559640"/>
          </a:xfrm>
          <a:prstGeom prst="line">
            <a:avLst/>
          </a:prstGeom>
          <a:ln cap="sq" w="72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7280" y="3384720"/>
            <a:ext cx="90709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nneaux d’affichage dynamique et To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46800" y="144360"/>
            <a:ext cx="2689200" cy="107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20720" y="4680000"/>
            <a:ext cx="878364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2952720"/>
            <a:ext cx="864072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381636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720" y="1008000"/>
            <a:ext cx="8724960" cy="49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158D-C33C-4D46-8695-580AEB6900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944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4612-3A80-48C8-9982-D1A3345EB0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2680" y="760320"/>
            <a:ext cx="805356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D281-6FA8-43EA-9947-4597E41F15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5600" y="866880"/>
            <a:ext cx="776772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19A2-40FB-44BF-8E48-18844947D1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2600" y="1609560"/>
            <a:ext cx="7715160" cy="434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C281-DFB0-4050-B398-D46EA82553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1749600"/>
            <a:ext cx="72183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508D-EF8D-41B6-9AB9-EDF1ACF3DD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152360"/>
            <a:ext cx="2772000" cy="492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0800000">
            <a:off x="5688000" y="2139120"/>
            <a:ext cx="3240000" cy="18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C27F-F8CA-4AAA-B053-50282B74B4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5040360" cy="106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64360" y="647640"/>
            <a:ext cx="3024000" cy="359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7080" y="2038320"/>
            <a:ext cx="3635640" cy="24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264360" y="4464000"/>
            <a:ext cx="30798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38360" y="5002200"/>
            <a:ext cx="3509640" cy="14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D4D0-A791-4933-B62F-53E2C68CFE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515880"/>
            <a:ext cx="233208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3960" y="2824200"/>
            <a:ext cx="323856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19680" y="360360"/>
            <a:ext cx="38401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76720" y="2917800"/>
            <a:ext cx="5143320" cy="7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896000" y="4005360"/>
            <a:ext cx="407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967280" y="6416640"/>
            <a:ext cx="3932280" cy="63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4869-4810-41D4-9679-601C4AB969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5400000">
            <a:off x="-333720" y="1775880"/>
            <a:ext cx="614844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4130280" y="18237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FA9B-515B-40DE-AD05-9B7C17DE9A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144360"/>
            <a:ext cx="9066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194472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50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71640" y="755640"/>
            <a:ext cx="45356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0C05-771B-4DF3-95AB-B5AA2FF4E4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720" y="792000"/>
            <a:ext cx="52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516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2AFF-9D20-42A6-B23E-60BF0EB615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9160" y="765000"/>
            <a:ext cx="804240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E7AB-0DA3-459E-8C3F-4C795D5B68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0880" y="431640"/>
            <a:ext cx="46054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43640" y="431640"/>
            <a:ext cx="3655800" cy="650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640" y="3270240"/>
            <a:ext cx="45529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60C2-CB13-41CA-9F4C-9C636905FB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8200" y="1400040"/>
            <a:ext cx="8462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DF8C-9E11-4249-A192-A8BF235F9B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152360"/>
            <a:ext cx="2597040" cy="461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75280" y="1152360"/>
            <a:ext cx="25704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CF5E-EB66-491E-9CD4-A57524DBE5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1405080"/>
            <a:ext cx="844848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76FB-C12D-465C-A58A-C60B4A1118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52600"/>
            <a:ext cx="827892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BBCC-E069-4CB9-8F7B-B336CA9709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9:22:00Z</dcterms:created>
  <dc:creator/>
  <dc:description/>
  <dc:language>en-US</dc:language>
  <cp:lastModifiedBy/>
  <dcterms:modified xsi:type="dcterms:W3CDTF">2016-09-23T10:13:47Z</dcterms:modified>
  <cp:revision>22</cp:revision>
  <dc:subject/>
  <dc:title/>
</cp:coreProperties>
</file>